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21608-1C27-4EE8-881F-D080A0132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74B0-086A-4681-B2CB-2017FA49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28C-E903-44CD-937B-AD2513BA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5A6-1CC2-4F03-A469-1DB8861DE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C683-85D8-4440-BA8A-A652AB5D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8896-113B-469E-BBAB-88E17B89B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6887-5F18-4952-AA3F-74D6B794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30DD-2DC2-4947-ACAB-31E1D558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BB1D-DDE2-4913-BCBA-E78C90CF1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30DA8-BDA6-49D6-8DDC-7A11B74D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DF18-CEBC-4FE9-967D-FDE7E6E0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441C-35C9-4664-B778-64A5E50E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166DA-566D-4DF4-AB27-98552394C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" name=""/>
          <p:cNvCxnSpPr/>
          <p:nvPr/>
        </p:nvCxnSpPr>
        <p:spPr>
          <a:xfrm>
            <a:off x="611280" y="2060280"/>
            <a:ext cx="721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" name=""/>
          <p:cNvCxnSpPr/>
          <p:nvPr/>
        </p:nvCxnSpPr>
        <p:spPr>
          <a:xfrm>
            <a:off x="1907640" y="1844280"/>
            <a:ext cx="15138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3419640" y="1628640"/>
            <a:ext cx="502920" cy="432000"/>
          </a:xfrm>
          <a:prstGeom prst="sun">
            <a:avLst>
              <a:gd name="adj" fmla="val 25000"/>
            </a:avLst>
          </a:prstGeom>
          <a:solidFill>
            <a:srgbClr val="f3ee1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1700280"/>
            <a:ext cx="172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13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Stand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/>
          <p:nvPr/>
        </p:nvCxnSpPr>
        <p:spPr>
          <a:xfrm>
            <a:off x="1834920" y="2565000"/>
            <a:ext cx="158652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 rot="10800000">
            <a:off x="3348000" y="2421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3348000" y="2133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421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133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endCxn id="49" idx="0"/>
          </p:cNvCxnSpPr>
          <p:nvPr/>
        </p:nvCxnSpPr>
        <p:spPr>
          <a:xfrm>
            <a:off x="2915280" y="1846080"/>
            <a:ext cx="1873080" cy="575280"/>
          </a:xfrm>
          <a:prstGeom prst="bentConnector3">
            <a:avLst>
              <a:gd name="adj1" fmla="val 112956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/>
          <p:nvPr/>
        </p:nvCxnSpPr>
        <p:spPr>
          <a:xfrm flipV="1">
            <a:off x="1403280" y="1844280"/>
            <a:ext cx="504000" cy="216720"/>
          </a:xfrm>
          <a:prstGeom prst="curvedConnector5">
            <a:avLst>
              <a:gd name="adj1" fmla="val 49821"/>
              <a:gd name="adj2" fmla="val 49916"/>
              <a:gd name="adj3" fmla="val 49821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50920" y="256536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56000" y="148428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/>
          <p:nvPr/>
        </p:nvCxnSpPr>
        <p:spPr>
          <a:xfrm flipH="1" rot="16200000">
            <a:off x="216000" y="2815920"/>
            <a:ext cx="2304000" cy="792720"/>
          </a:xfrm>
          <a:prstGeom prst="bentConnector3">
            <a:avLst>
              <a:gd name="adj1" fmla="val 100000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/>
          <p:nvPr/>
        </p:nvCxnSpPr>
        <p:spPr>
          <a:xfrm flipV="1">
            <a:off x="1763280" y="3933360"/>
            <a:ext cx="577080" cy="43272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/>
          <p:nvPr/>
        </p:nvCxnSpPr>
        <p:spPr>
          <a:xfrm>
            <a:off x="2340000" y="3860280"/>
            <a:ext cx="26661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/>
          <p:nvPr/>
        </p:nvCxnSpPr>
        <p:spPr>
          <a:xfrm>
            <a:off x="2410920" y="4941360"/>
            <a:ext cx="1008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 rot="10800000">
            <a:off x="3492360" y="4797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067280" y="4797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3492360" y="450864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450864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/>
          <p:nvPr/>
        </p:nvCxnSpPr>
        <p:spPr>
          <a:xfrm flipH="1" rot="16200000">
            <a:off x="2800080" y="4047480"/>
            <a:ext cx="793080" cy="418320"/>
          </a:xfrm>
          <a:prstGeom prst="bentConnector3">
            <a:avLst>
              <a:gd name="adj1" fmla="val 1021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5003640" y="3429000"/>
            <a:ext cx="1873440" cy="792000"/>
          </a:xfrm>
          <a:custGeom>
            <a:avLst/>
            <a:gdLst>
              <a:gd name="textAreaLeft" fmla="*/ 0 w 1873440"/>
              <a:gd name="textAreaRight" fmla="*/ 1873800 w 1873440"/>
              <a:gd name="textAreaTop" fmla="*/ 198000 h 792000"/>
              <a:gd name="textAreaBottom" fmla="*/ 5940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148360" y="371628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nlicht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43280" y="35002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3573360"/>
            <a:ext cx="172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Fahrl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"/>
          <p:cNvCxnSpPr/>
          <p:nvPr/>
        </p:nvCxnSpPr>
        <p:spPr>
          <a:xfrm flipV="1">
            <a:off x="1476000" y="2565000"/>
            <a:ext cx="432360" cy="288000"/>
          </a:xfrm>
          <a:prstGeom prst="curvedConnector5">
            <a:avLst>
              <a:gd name="adj1" fmla="val 50000"/>
              <a:gd name="adj2" fmla="val 49937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0" name=""/>
          <p:cNvCxnSpPr/>
          <p:nvPr/>
        </p:nvCxnSpPr>
        <p:spPr>
          <a:xfrm flipV="1">
            <a:off x="1835280" y="4941360"/>
            <a:ext cx="576360" cy="432720"/>
          </a:xfrm>
          <a:prstGeom prst="curvedConnector5">
            <a:avLst>
              <a:gd name="adj1" fmla="val 45437"/>
              <a:gd name="adj2" fmla="val 49958"/>
              <a:gd name="adj3" fmla="val 45437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619280" y="1989000"/>
            <a:ext cx="2160" cy="72000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2" name=""/>
          <p:cNvCxnSpPr/>
          <p:nvPr/>
        </p:nvCxnSpPr>
        <p:spPr>
          <a:xfrm>
            <a:off x="2050560" y="4221000"/>
            <a:ext cx="1080" cy="9374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73" name=""/>
          <p:cNvCxnSpPr/>
          <p:nvPr/>
        </p:nvCxnSpPr>
        <p:spPr>
          <a:xfrm>
            <a:off x="755280" y="5373360"/>
            <a:ext cx="108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/>
          <p:nvPr/>
        </p:nvCxnSpPr>
        <p:spPr>
          <a:xfrm flipH="1" flipV="1" rot="5400000">
            <a:off x="71640" y="3967200"/>
            <a:ext cx="2521800" cy="291240"/>
          </a:xfrm>
          <a:prstGeom prst="bentConnector3">
            <a:avLst>
              <a:gd name="adj1" fmla="val 9961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250920" y="5013360"/>
            <a:ext cx="86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m über Zünd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"/>
          <p:cNvCxnSpPr/>
          <p:nvPr/>
        </p:nvCxnSpPr>
        <p:spPr>
          <a:xfrm>
            <a:off x="394920" y="3676320"/>
            <a:ext cx="1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>
            <a:off x="684360" y="2204640"/>
            <a:ext cx="576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/>
          <p:nvPr/>
        </p:nvCxnSpPr>
        <p:spPr>
          <a:xfrm flipH="1" rot="16200000">
            <a:off x="1187280" y="227592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/>
          <p:nvPr/>
        </p:nvCxnSpPr>
        <p:spPr>
          <a:xfrm flipV="1">
            <a:off x="1258920" y="184392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/>
          <p:nvPr/>
        </p:nvCxnSpPr>
        <p:spPr>
          <a:xfrm>
            <a:off x="1763280" y="184428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/>
          <p:nvPr/>
        </p:nvCxnSpPr>
        <p:spPr>
          <a:xfrm>
            <a:off x="1692000" y="278100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10800000">
            <a:off x="3132000" y="26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3132000" y="234900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08360" y="263700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708360" y="234936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4" idx="0"/>
          </p:cNvCxnSpPr>
          <p:nvPr/>
        </p:nvCxnSpPr>
        <p:spPr>
          <a:xfrm flipH="1" rot="16200000">
            <a:off x="2476440" y="1852200"/>
            <a:ext cx="650160" cy="63432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4427640" y="4005360"/>
            <a:ext cx="2881080" cy="431640"/>
          </a:xfrm>
          <a:prstGeom prst="leftArrowCallout">
            <a:avLst>
              <a:gd name="adj1" fmla="val 25002"/>
              <a:gd name="adj2" fmla="val 25000"/>
              <a:gd name="adj3" fmla="val 111245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508720" y="407664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3789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chalter Nebelschlußleuch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1280" y="2349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71640" y="155736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ün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"/>
          <p:cNvCxnSpPr/>
          <p:nvPr/>
        </p:nvCxnSpPr>
        <p:spPr>
          <a:xfrm>
            <a:off x="539280" y="4581000"/>
            <a:ext cx="577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 flipH="1" rot="16200000">
            <a:off x="1044360" y="4652280"/>
            <a:ext cx="577080" cy="434160"/>
          </a:xfrm>
          <a:prstGeom prst="curvedConnector5">
            <a:avLst>
              <a:gd name="adj1" fmla="val 49812"/>
              <a:gd name="adj2" fmla="val 49958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/>
          <p:nvPr/>
        </p:nvCxnSpPr>
        <p:spPr>
          <a:xfrm flipV="1">
            <a:off x="1116000" y="4220280"/>
            <a:ext cx="505440" cy="361080"/>
          </a:xfrm>
          <a:prstGeom prst="curvedConnector5">
            <a:avLst>
              <a:gd name="adj1" fmla="val 49964"/>
              <a:gd name="adj2" fmla="val 50000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618920" y="4220640"/>
            <a:ext cx="280908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547640" y="5157360"/>
            <a:ext cx="1440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 rot="10800000">
            <a:off x="2987640" y="501336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987640" y="4724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64000" y="50133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64000" y="472428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/>
          <p:nvPr/>
        </p:nvCxnSpPr>
        <p:spPr>
          <a:xfrm flipH="1" rot="16200000">
            <a:off x="2331000" y="4228920"/>
            <a:ext cx="650160" cy="633960"/>
          </a:xfrm>
          <a:prstGeom prst="bentConnector2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179280" y="465300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o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6000" y="39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u/gel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341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heizbare 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1628640"/>
            <a:ext cx="2592360" cy="432000"/>
          </a:xfrm>
          <a:prstGeom prst="leftArrowCallout">
            <a:avLst>
              <a:gd name="adj1" fmla="val 25002"/>
              <a:gd name="adj2" fmla="val 25000"/>
              <a:gd name="adj3" fmla="val 100014"/>
              <a:gd name="adj4" fmla="val 66673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651640" y="1700280"/>
            <a:ext cx="165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ckschei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chaltplan Schalterlei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899640" y="1844280"/>
            <a:ext cx="11516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 rot="10800000">
            <a:off x="4716360" y="414972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92720" y="414972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0800000">
            <a:off x="2050920" y="170028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ff00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1700280"/>
            <a:ext cx="7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r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"/>
          <p:cNvCxnSpPr/>
          <p:nvPr/>
        </p:nvCxnSpPr>
        <p:spPr>
          <a:xfrm>
            <a:off x="3492000" y="184428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700280"/>
            <a:ext cx="1944720" cy="576360"/>
          </a:xfrm>
          <a:prstGeom prst="downArrowCallout">
            <a:avLst>
              <a:gd name="adj1" fmla="val 84361"/>
              <a:gd name="adj2" fmla="val 84354"/>
              <a:gd name="adj3" fmla="val 16667"/>
              <a:gd name="adj4" fmla="val 66667"/>
            </a:avLst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27640" y="1773360"/>
            <a:ext cx="28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ber Bremsflüssigke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/>
          <p:nvPr/>
        </p:nvCxnSpPr>
        <p:spPr>
          <a:xfrm flipH="1" rot="16200000">
            <a:off x="3778560" y="1915920"/>
            <a:ext cx="432720" cy="289440"/>
          </a:xfrm>
          <a:prstGeom prst="bentConnector3">
            <a:avLst>
              <a:gd name="adj1" fmla="val 10507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/>
          <p:nvPr/>
        </p:nvCxnSpPr>
        <p:spPr>
          <a:xfrm>
            <a:off x="4211640" y="2276280"/>
            <a:ext cx="505440" cy="144720"/>
          </a:xfrm>
          <a:prstGeom prst="curvedConnector5">
            <a:avLst>
              <a:gd name="adj1" fmla="val 49964"/>
              <a:gd name="adj2" fmla="val 49875"/>
              <a:gd name="adj3" fmla="val 49964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19" name=""/>
          <p:cNvCxnSpPr/>
          <p:nvPr/>
        </p:nvCxnSpPr>
        <p:spPr>
          <a:xfrm>
            <a:off x="4716000" y="2420640"/>
            <a:ext cx="259272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/>
          <p:nvPr/>
        </p:nvCxnSpPr>
        <p:spPr>
          <a:xfrm>
            <a:off x="6300720" y="1844280"/>
            <a:ext cx="172800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/>
          <p:nvPr/>
        </p:nvCxnSpPr>
        <p:spPr>
          <a:xfrm flipH="1" flipV="1" rot="5400000">
            <a:off x="7127640" y="2025000"/>
            <a:ext cx="577080" cy="215280"/>
          </a:xfrm>
          <a:prstGeom prst="bentConnector3">
            <a:avLst>
              <a:gd name="adj1" fmla="val 49812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900000" y="1197000"/>
            <a:ext cx="302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lampe Brems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55736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rp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40360" y="2133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ch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91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w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" action="ppaction://hlinkshowjump?jump=lastslide"/>
          </p:cNvPr>
          <p:cNvSpPr/>
          <p:nvPr/>
        </p:nvSpPr>
        <p:spPr>
          <a:xfrm>
            <a:off x="3851280" y="350028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lastslide"/>
          </p:cNvPr>
          <p:cNvSpPr/>
          <p:nvPr/>
        </p:nvSpPr>
        <p:spPr>
          <a:xfrm>
            <a:off x="3851280" y="3860640"/>
            <a:ext cx="360360" cy="289080"/>
          </a:xfrm>
          <a:custGeom>
            <a:avLst/>
            <a:gdLst>
              <a:gd name="textAreaLeft" fmla="*/ 18720 w 360360"/>
              <a:gd name="textAreaRight" fmla="*/ 341640 w 36036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26919" h="21600">
                <a:moveTo>
                  <a:pt x="0" y="0"/>
                </a:moveTo>
                <a:lnTo>
                  <a:pt x="26919" y="0"/>
                </a:lnTo>
                <a:lnTo>
                  <a:pt x="26919" y="21600"/>
                </a:lnTo>
                <a:lnTo>
                  <a:pt x="0" y="21600"/>
                </a:lnTo>
                <a:close/>
              </a:path>
              <a:path fill="lightenLess" w="26919" h="21600">
                <a:moveTo>
                  <a:pt x="0" y="0"/>
                </a:moveTo>
                <a:lnTo>
                  <a:pt x="26919" y="0"/>
                </a:lnTo>
                <a:lnTo>
                  <a:pt x="25519" y="1400"/>
                </a:lnTo>
                <a:lnTo>
                  <a:pt x="1400" y="1400"/>
                </a:lnTo>
                <a:close/>
              </a:path>
              <a:path fill="darken" w="26919" h="21600">
                <a:moveTo>
                  <a:pt x="26919" y="0"/>
                </a:moveTo>
                <a:lnTo>
                  <a:pt x="26919" y="21600"/>
                </a:lnTo>
                <a:lnTo>
                  <a:pt x="25519" y="20200"/>
                </a:lnTo>
                <a:lnTo>
                  <a:pt x="25519" y="1400"/>
                </a:lnTo>
                <a:close/>
              </a:path>
              <a:path fill="darkenLess" w="26919" h="21600">
                <a:moveTo>
                  <a:pt x="269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19" y="20200"/>
                </a:lnTo>
                <a:close/>
              </a:path>
              <a:path fill="lighten" w="269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19" h="21600">
                <a:moveTo>
                  <a:pt x="16959" y="10800"/>
                </a:moveTo>
                <a:lnTo>
                  <a:pt x="6453" y="17806"/>
                </a:lnTo>
                <a:lnTo>
                  <a:pt x="6453" y="3794"/>
                </a:lnTo>
                <a:close/>
              </a:path>
              <a:path fill="darken" w="26919" h="21600">
                <a:moveTo>
                  <a:pt x="18804" y="3794"/>
                </a:moveTo>
                <a:lnTo>
                  <a:pt x="18804" y="17806"/>
                </a:lnTo>
                <a:lnTo>
                  <a:pt x="20466" y="17806"/>
                </a:lnTo>
                <a:lnTo>
                  <a:pt x="2046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63640" y="3573360"/>
            <a:ext cx="503280" cy="57636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endCxn id="128" idx="1"/>
          </p:cNvCxnSpPr>
          <p:nvPr/>
        </p:nvCxnSpPr>
        <p:spPr>
          <a:xfrm>
            <a:off x="826920" y="3860280"/>
            <a:ext cx="921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28" idx="3"/>
          </p:cNvCxnSpPr>
          <p:nvPr/>
        </p:nvCxnSpPr>
        <p:spPr>
          <a:xfrm flipV="1">
            <a:off x="2282760" y="3859920"/>
            <a:ext cx="489600" cy="252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2771280" y="3644280"/>
            <a:ext cx="505800" cy="2163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2" name=""/>
          <p:cNvCxnSpPr>
            <a:endCxn id="126" idx="0"/>
          </p:cNvCxnSpPr>
          <p:nvPr/>
        </p:nvCxnSpPr>
        <p:spPr>
          <a:xfrm>
            <a:off x="3276720" y="3644640"/>
            <a:ext cx="5925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3" name=""/>
          <p:cNvCxnSpPr/>
          <p:nvPr/>
        </p:nvCxnSpPr>
        <p:spPr>
          <a:xfrm flipH="1" rot="16200000">
            <a:off x="3490560" y="3645360"/>
            <a:ext cx="361080" cy="359640"/>
          </a:xfrm>
          <a:prstGeom prst="bentConnector3">
            <a:avLst>
              <a:gd name="adj1" fmla="val 10518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6" idx="1"/>
          </p:cNvCxnSpPr>
          <p:nvPr/>
        </p:nvCxnSpPr>
        <p:spPr>
          <a:xfrm>
            <a:off x="4211640" y="364464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/>
          <p:nvPr/>
        </p:nvCxnSpPr>
        <p:spPr>
          <a:xfrm>
            <a:off x="4211640" y="4005000"/>
            <a:ext cx="338544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6" name=""/>
          <p:cNvCxnSpPr/>
          <p:nvPr/>
        </p:nvCxnSpPr>
        <p:spPr>
          <a:xfrm flipV="1">
            <a:off x="2771280" y="4652640"/>
            <a:ext cx="505800" cy="144720"/>
          </a:xfrm>
          <a:prstGeom prst="curvedConnector5">
            <a:avLst>
              <a:gd name="adj1" fmla="val 50000"/>
              <a:gd name="adj2" fmla="val 49875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37" name=""/>
          <p:cNvCxnSpPr/>
          <p:nvPr/>
        </p:nvCxnSpPr>
        <p:spPr>
          <a:xfrm>
            <a:off x="1186920" y="3499920"/>
            <a:ext cx="1585080" cy="1297800"/>
          </a:xfrm>
          <a:prstGeom prst="bentConnector3">
            <a:avLst>
              <a:gd name="adj1" fmla="val 1681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/>
          <p:nvPr/>
        </p:nvCxnSpPr>
        <p:spPr>
          <a:xfrm>
            <a:off x="3347640" y="4652640"/>
            <a:ext cx="864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/>
          <p:nvPr/>
        </p:nvCxnSpPr>
        <p:spPr>
          <a:xfrm>
            <a:off x="3059280" y="3789000"/>
            <a:ext cx="2160" cy="86436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cxnSp>
        <p:nvCxnSpPr>
          <p:cNvPr id="140" name=""/>
          <p:cNvCxnSpPr>
            <a:endCxn id="110" idx="0"/>
          </p:cNvCxnSpPr>
          <p:nvPr/>
        </p:nvCxnSpPr>
        <p:spPr>
          <a:xfrm flipH="1" flipV="1" rot="10800000">
            <a:off x="3492000" y="4005000"/>
            <a:ext cx="1210680" cy="289440"/>
          </a:xfrm>
          <a:prstGeom prst="bentConnector3">
            <a:avLst>
              <a:gd name="adj1" fmla="val -118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211640" y="4365720"/>
            <a:ext cx="289080" cy="576000"/>
          </a:xfrm>
          <a:prstGeom prst="flowChartProcess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/>
          <p:nvPr/>
        </p:nvCxnSpPr>
        <p:spPr>
          <a:xfrm flipV="1">
            <a:off x="4140000" y="5515920"/>
            <a:ext cx="432360" cy="361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16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</p:cxnSp>
      <p:cxnSp>
        <p:nvCxnSpPr>
          <p:cNvPr id="143" name=""/>
          <p:cNvCxnSpPr>
            <a:stCxn id="141" idx="2"/>
          </p:cNvCxnSpPr>
          <p:nvPr/>
        </p:nvCxnSpPr>
        <p:spPr>
          <a:xfrm>
            <a:off x="4355640" y="4957560"/>
            <a:ext cx="1080" cy="705240"/>
          </a:xfrm>
          <a:prstGeom prst="straightConnector1">
            <a:avLst/>
          </a:prstGeom>
          <a:ln w="31680">
            <a:solidFill>
              <a:srgbClr val="0000ff"/>
            </a:solidFill>
            <a:prstDash val="sysDot"/>
            <a:miter/>
          </a:ln>
        </p:spPr>
      </p:cxnSp>
      <p:sp>
        <p:nvSpPr>
          <p:cNvPr id="144" name=""/>
          <p:cNvSpPr/>
          <p:nvPr/>
        </p:nvSpPr>
        <p:spPr>
          <a:xfrm>
            <a:off x="1835280" y="5589720"/>
            <a:ext cx="503280" cy="576000"/>
          </a:xfrm>
          <a:prstGeom prst="rect">
            <a:avLst/>
          </a:pr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4" idx="3"/>
          </p:cNvCxnSpPr>
          <p:nvPr/>
        </p:nvCxnSpPr>
        <p:spPr>
          <a:xfrm flipV="1">
            <a:off x="2354400" y="5876640"/>
            <a:ext cx="171360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endCxn id="144" idx="1"/>
          </p:cNvCxnSpPr>
          <p:nvPr/>
        </p:nvCxnSpPr>
        <p:spPr>
          <a:xfrm>
            <a:off x="900000" y="5877000"/>
            <a:ext cx="920160" cy="2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/>
          <p:nvPr/>
        </p:nvCxnSpPr>
        <p:spPr>
          <a:xfrm>
            <a:off x="4067280" y="5877000"/>
            <a:ext cx="505440" cy="289440"/>
          </a:xfrm>
          <a:prstGeom prst="curvedConnector5">
            <a:avLst>
              <a:gd name="adj1" fmla="val 49964"/>
              <a:gd name="adj2" fmla="val 49937"/>
              <a:gd name="adj3" fmla="val 49964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8" name=""/>
          <p:cNvCxnSpPr/>
          <p:nvPr/>
        </p:nvCxnSpPr>
        <p:spPr>
          <a:xfrm>
            <a:off x="4571640" y="6165360"/>
            <a:ext cx="648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5219640" y="5877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169920 h 576360"/>
              <a:gd name="textAreaBottom" fmla="*/ 406440 h 576360"/>
            </a:gdLst>
            <a:ahLst/>
            <a:rect l="textAreaLeft" t="textAreaTop" r="textAreaRight" b="textAreaBottom"/>
            <a:pathLst>
              <a:path w="21600" h="21600">
                <a:moveTo>
                  <a:pt x="0" y="6367"/>
                </a:moveTo>
                <a:lnTo>
                  <a:pt x="0" y="15233"/>
                </a:lnTo>
                <a:lnTo>
                  <a:pt x="8100" y="15233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5233"/>
                </a:lnTo>
                <a:lnTo>
                  <a:pt x="21600" y="15233"/>
                </a:lnTo>
                <a:lnTo>
                  <a:pt x="21600" y="6367"/>
                </a:lnTo>
                <a:lnTo>
                  <a:pt x="13500" y="6367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6367"/>
                </a:lnTo>
                <a:close/>
              </a:path>
            </a:pathLst>
          </a:custGeom>
          <a:solidFill>
            <a:srgbClr val="bbe0e3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6021360"/>
            <a:ext cx="129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nkerschal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"/>
          <p:cNvCxnSpPr>
            <a:stCxn id="149" idx="0"/>
          </p:cNvCxnSpPr>
          <p:nvPr/>
        </p:nvCxnSpPr>
        <p:spPr>
          <a:xfrm flipV="1">
            <a:off x="6227280" y="3644640"/>
            <a:ext cx="1080" cy="22168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9" idx="1"/>
          </p:cNvCxnSpPr>
          <p:nvPr/>
        </p:nvCxnSpPr>
        <p:spPr>
          <a:xfrm flipH="1" flipV="1" rot="5400000">
            <a:off x="5571720" y="4660560"/>
            <a:ext cx="2464560" cy="1153440"/>
          </a:xfrm>
          <a:prstGeom prst="bentConnector3">
            <a:avLst>
              <a:gd name="adj1" fmla="val -8634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7667640" y="386064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67640" y="3500280"/>
            <a:ext cx="72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56000" y="5589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ellgn/bra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8360" y="3500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gn/p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43280" y="3284640"/>
            <a:ext cx="10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00720" y="3716280"/>
            <a:ext cx="86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/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500280"/>
            <a:ext cx="64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u/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42920" y="558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763640" y="328464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5280" y="5300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140360" y="450864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2924280"/>
            <a:ext cx="28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halter Warnblinkanl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rot="10800000">
            <a:off x="2050920" y="1988640"/>
            <a:ext cx="1440000" cy="287640"/>
          </a:xfrm>
          <a:prstGeom prst="rightArrowCallout">
            <a:avLst>
              <a:gd name="adj1" fmla="val 25002"/>
              <a:gd name="adj2" fmla="val 25000"/>
              <a:gd name="adj3" fmla="val 83438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556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" name=""/>
          <p:cNvCxnSpPr>
            <a:endCxn id="165" idx="0"/>
          </p:cNvCxnSpPr>
          <p:nvPr/>
        </p:nvCxnSpPr>
        <p:spPr>
          <a:xfrm>
            <a:off x="1476000" y="1844280"/>
            <a:ext cx="561240" cy="289440"/>
          </a:xfrm>
          <a:prstGeom prst="bentConnector3">
            <a:avLst>
              <a:gd name="adj1" fmla="val 51219"/>
            </a:avLst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8" name=""/>
          <p:cNvCxnSpPr/>
          <p:nvPr/>
        </p:nvCxnSpPr>
        <p:spPr>
          <a:xfrm flipV="1">
            <a:off x="4140360" y="2420640"/>
            <a:ext cx="576360" cy="216720"/>
          </a:xfrm>
          <a:prstGeom prst="curvedConnector5">
            <a:avLst>
              <a:gd name="adj1" fmla="val 49875"/>
              <a:gd name="adj2" fmla="val 49916"/>
              <a:gd name="adj3" fmla="val 49875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9" name=""/>
          <p:cNvCxnSpPr>
            <a:stCxn id="165" idx="1"/>
          </p:cNvCxnSpPr>
          <p:nvPr/>
        </p:nvCxnSpPr>
        <p:spPr>
          <a:xfrm>
            <a:off x="3508200" y="2133720"/>
            <a:ext cx="632880" cy="504000"/>
          </a:xfrm>
          <a:prstGeom prst="bentConnector3">
            <a:avLst>
              <a:gd name="adj1" fmla="val 26579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0" name=""/>
          <p:cNvSpPr/>
          <p:nvPr/>
        </p:nvSpPr>
        <p:spPr>
          <a:xfrm rot="10800000">
            <a:off x="4716360" y="4437000"/>
            <a:ext cx="1440000" cy="287280"/>
          </a:xfrm>
          <a:prstGeom prst="rightArrowCallout">
            <a:avLst>
              <a:gd name="adj1" fmla="val 25002"/>
              <a:gd name="adj2" fmla="val 25000"/>
              <a:gd name="adj3" fmla="val 83542"/>
              <a:gd name="adj4" fmla="val 66667"/>
            </a:avLst>
          </a:prstGeom>
          <a:solidFill>
            <a:srgbClr val="00ff00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"/>
          <p:cNvCxnSpPr/>
          <p:nvPr/>
        </p:nvCxnSpPr>
        <p:spPr>
          <a:xfrm>
            <a:off x="2771280" y="4869000"/>
            <a:ext cx="577080" cy="289440"/>
          </a:xfrm>
          <a:prstGeom prst="curvedConnector5">
            <a:avLst>
              <a:gd name="adj1" fmla="val 49812"/>
              <a:gd name="adj2" fmla="val 49937"/>
              <a:gd name="adj3" fmla="val 49812"/>
            </a:avLst>
          </a:prstGeom>
          <a:ln w="316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2" name=""/>
          <p:cNvCxnSpPr>
            <a:endCxn id="170" idx="0"/>
          </p:cNvCxnSpPr>
          <p:nvPr/>
        </p:nvCxnSpPr>
        <p:spPr>
          <a:xfrm flipV="1">
            <a:off x="3348000" y="4580640"/>
            <a:ext cx="1355040" cy="577080"/>
          </a:xfrm>
          <a:prstGeom prst="bentConnector3">
            <a:avLst>
              <a:gd name="adj1" fmla="val 101381"/>
            </a:avLst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5292720" y="4437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Led grü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/>
          <p:nvPr/>
        </p:nvCxnSpPr>
        <p:spPr>
          <a:xfrm>
            <a:off x="4571640" y="5516280"/>
            <a:ext cx="432360" cy="108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20:47:42Z</dcterms:created>
  <dc:creator>Andreas Raab</dc:creator>
  <dc:description/>
  <dc:language>en-US</dc:language>
  <cp:lastModifiedBy>Andreas Raab</cp:lastModifiedBy>
  <dcterms:modified xsi:type="dcterms:W3CDTF">2004-04-01T22:51:12Z</dcterms:modified>
  <cp:revision>12</cp:revision>
  <dc:subject/>
  <dc:title>Schaltplan Schalterleiste</dc:title>
</cp:coreProperties>
</file>